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6153-FD9B-4D8A-B323-4712459B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3DF-578B-4A1B-97BD-78E41601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871-36D9-4A46-AEE7-8C822628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1C3-7F15-4D7F-A632-A68CE347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A41F-461D-49C6-9606-FACEB946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9B54-F8BC-48E5-B8C0-8E8B4A26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42B5-F876-490E-B3B8-C8A5E284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CF15-4F52-4396-AB3C-4E65D1B1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C6AF-0107-41BA-A32F-7C13DB4E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9B05-C153-4648-A66D-10D37DAD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114A-B167-4416-92DA-B5EA5410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56D-F0B5-45D3-8DBC-4DCB9DA6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EBA0-1F32-4C3F-B763-1C03750D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39C3-33FA-4EC0-AD9D-ACE47D67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2C9E-D561-4276-8015-87260977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3521-145A-480C-BFDC-2625B1B1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4E2B-38CE-4CE9-8897-8488DBC8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E16-9553-4F3A-9B3C-9491211C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19F0-47A5-4FA0-82B4-9F37B68D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5B9-D8C9-45B1-8ADB-3DC2247A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A96-59FE-4C53-B2C5-E331EF11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7FC-D4C9-4B2B-8AD6-7FF84F29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68F-D54A-47F5-9138-5071A061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A21C-7207-47F4-9820-64D5EECA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4347-AAF7-4BB3-8EFE-4AC0D0B37B1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3E98-CCF2-43AE-933C-7F60EA33C53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apter 5:  Industrializ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5.  Inventions Promoting Change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.Telephone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exander Graham Be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day’s AT&amp;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1" name="Picture 6" descr="wuphone.jpg (52312 bytes)"/>
          <p:cNvPicPr/>
          <p:nvPr/>
        </p:nvPicPr>
        <p:blipFill>
          <a:blip r:embed="rId1"/>
          <a:stretch/>
        </p:blipFill>
        <p:spPr>
          <a:xfrm>
            <a:off x="5334120" y="3581280"/>
            <a:ext cx="3017880" cy="304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patent3"/>
          <p:cNvPicPr/>
          <p:nvPr/>
        </p:nvPicPr>
        <p:blipFill>
          <a:blip r:embed="rId2"/>
          <a:stretch/>
        </p:blipFill>
        <p:spPr>
          <a:xfrm>
            <a:off x="5334120" y="1371600"/>
            <a:ext cx="31050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6.  Electricit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omas Edison: perfects the light bulb, NOT the inventor; phonograph and electric generato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oth Edison and Westinghouse develop technique for </a:t>
            </a: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transporting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electric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Picture 7" descr="Thomas Edison's Electric Lamp Patent Drawing and Claim [Incandescent Light Bulb]"/>
          <p:cNvPicPr/>
          <p:nvPr/>
        </p:nvPicPr>
        <p:blipFill>
          <a:blip r:embed="rId1"/>
          <a:stretch/>
        </p:blipFill>
        <p:spPr>
          <a:xfrm>
            <a:off x="5181480" y="16002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.  Impact of Techn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 food due to refrigeration; lasts long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brics made in factories =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othes standardized = no more sewing at home; same w/sh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legraph across Atlantic ocean = improved communi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cientific management-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reaking down tasks into small parts; standardizing (snowman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.  Free Enterpri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Laissez-fair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gov’t does not interfere in economic decisions; protects private proper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 market – supply and demand- and low taxes; competition/capitalis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trepreneurs (businessman) increased; invested in U.S. indust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ew taxes and regulation =increase economic grow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Tariff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fees imposed on imported goods; protect American business owners from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Unit Essential Ques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How did the Industrial Revolution change life for American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How did America become an industrial world leader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The Rise of Indust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 Four main factors which contributed 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uccess of industrializ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 Natural resour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.  A large population to support market for new products = workfor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.  Explosion of inven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.  Free Enterpri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2.  Plenty of Natural Resource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.  Coal, Iron ore, oil, timb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.  stateside/inexpens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.  Drawback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Picture 5" descr="619&lt;b&gt;oil&lt;/b&gt;_and_gas_well_at_sunset6.jpg"/>
          <p:cNvPicPr/>
          <p:nvPr/>
        </p:nvPicPr>
        <p:blipFill>
          <a:blip r:embed="rId1"/>
          <a:stretch/>
        </p:blipFill>
        <p:spPr>
          <a:xfrm>
            <a:off x="6781680" y="3657600"/>
            <a:ext cx="1992600" cy="297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BL00381_"/>
          <p:cNvPicPr/>
          <p:nvPr/>
        </p:nvPicPr>
        <p:blipFill>
          <a:blip r:embed="rId2"/>
          <a:stretch/>
        </p:blipFill>
        <p:spPr>
          <a:xfrm>
            <a:off x="5470560" y="1447920"/>
            <a:ext cx="3673440" cy="2054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IN00483_"/>
          <p:cNvPicPr/>
          <p:nvPr/>
        </p:nvPicPr>
        <p:blipFill>
          <a:blip r:embed="rId3"/>
          <a:stretch/>
        </p:blipFill>
        <p:spPr>
          <a:xfrm>
            <a:off x="4038480" y="3657600"/>
            <a:ext cx="2057400" cy="2044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&lt;b&gt;Coal&lt;/b&gt; Traini.jpg"/>
          <p:cNvPicPr/>
          <p:nvPr/>
        </p:nvPicPr>
        <p:blipFill>
          <a:blip r:embed="rId4"/>
          <a:stretch/>
        </p:blipFill>
        <p:spPr>
          <a:xfrm>
            <a:off x="1676520" y="3848040"/>
            <a:ext cx="20066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3.  Black G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il discovered in Tex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dward Drake develops easy system to drill for o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in u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erose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asoline not in demand until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" name="Picture 7" descr="Swiss kerosene lamp.  The knob protruding to the right adjusts the wick, and hence the flame size."/>
          <p:cNvPicPr/>
          <p:nvPr/>
        </p:nvPicPr>
        <p:blipFill>
          <a:blip r:embed="rId1"/>
          <a:stretch/>
        </p:blipFill>
        <p:spPr>
          <a:xfrm>
            <a:off x="5334120" y="1676520"/>
            <a:ext cx="23270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1896HenryFordsFirstCar"/>
          <p:cNvPicPr/>
          <p:nvPr/>
        </p:nvPicPr>
        <p:blipFill>
          <a:blip r:embed="rId1"/>
          <a:stretch/>
        </p:blipFill>
        <p:spPr>
          <a:xfrm>
            <a:off x="1676520" y="1295280"/>
            <a:ext cx="6721200" cy="5064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enry Ford’s First Aut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enry Ford’s Model 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5160" y="18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2" name="Picture 5" descr="model-t"/>
          <p:cNvPicPr/>
          <p:nvPr/>
        </p:nvPicPr>
        <p:blipFill>
          <a:blip r:embed="rId1"/>
          <a:stretch/>
        </p:blipFill>
        <p:spPr>
          <a:xfrm>
            <a:off x="2057400" y="1600200"/>
            <a:ext cx="59562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del 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6600" y="156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5" name="Picture 5" descr="model-a"/>
          <p:cNvPicPr/>
          <p:nvPr/>
        </p:nvPicPr>
        <p:blipFill>
          <a:blip r:embed="rId1"/>
          <a:stretch/>
        </p:blipFill>
        <p:spPr>
          <a:xfrm>
            <a:off x="2438280" y="1523880"/>
            <a:ext cx="541044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4.  Large Work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pulation triples 1860-19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rge families, better standard of liv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igration: religious and political persecution in homelan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reases consumer goo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10-06T18:21:14Z</dcterms:modified>
  <cp:revision>19</cp:revision>
  <dc:subject/>
  <dc:title>PowerPoint Presentation</dc:title>
</cp:coreProperties>
</file>